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comments/comment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10080625" cy="7559675"/>
  <p:notesSz cx="7559675" cy="10691813"/>
</p:presentation>
</file>

<file path=ppt/commentAuthors.xml><?xml version="1.0" encoding="utf-8"?>
<p:cmAuthorLst xmlns:p="http://schemas.openxmlformats.org/presentationml/2006/main">
  <p:cmAuthor id="0" name="Jim Brayer" initials="J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<Relationship Id="rId61" Type="http://schemas.openxmlformats.org/officeDocument/2006/relationships/commentAuthors" Target="commentAuthors.xml"/>
</Relationships>
</file>

<file path=ppt/comments/comment8.xml><?xml version="1.0" encoding="utf-8"?>
<p:cmLst xmlns:p="http://schemas.openxmlformats.org/presentationml/2006/main">
  <p:cm authorId="0" dt="2007-10-24T08:43:02.903000000" idx="1">
    <p:pos x="10" y="10"/>
    <p:text>Why is this not Following base addition order	G - C - A - G - T - C - AShouldn't it be:	G  - ' T ' - C - A - G - T - C - A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988D2-EF04-4FEB-B768-A20C4BB7BC3D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4571A-0B2E-47F3-B26B-84F372492333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9BCEE-26EC-4193-A5DE-C43E29CD8FEF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28EDA-FEF7-4640-B29B-DB8FC5F855B1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96BF3-87D6-45F0-96CA-C69829FC5A90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51322-84B4-44D7-BAC6-5B4DE9FBB1AF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EE9AD-6003-4AB5-B8C2-005F47ECD383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585F5-A21B-4D75-BD2D-B440F6A39B8C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1566D-6DAD-40EE-BCAC-7A83B40A54A4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838B0-5EE5-4CDF-9F7F-FB53D96B3A1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39279-CF8C-4D6B-A2DD-282218D1C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2C69C9C-6C6A-49C6-8101-6367CB3BC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56720" y="5079960"/>
            <a:ext cx="6045480" cy="48103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 tSMS Image from 1/4  images from a single FOV.  Each image uses a CCD camera in the HeliScope (~7,500 stra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CDB2-E79E-4A41-B317-3CB6CF12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9838-51E8-4755-8E63-7D98F87D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64B2-5FD4-4426-BD03-225576B0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E72A-0404-4270-BF1C-F8C4C833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4993-5AE8-4AA5-95CF-438A02BA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AF8E-1F27-4233-A0AD-0686A165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853-358C-41AB-BFF3-0888F84D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2183-7822-4EC7-AC43-D9F32FBF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CB93-0A09-4DCF-B1D7-89DBF775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B726-4F30-4260-B2FA-AF2F7793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3F32-0D76-4732-BB8C-5FD0A599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2439-A81D-4981-B0AF-BA139E03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4AFC12-3623-41A7-A751-F55C7F6BDDBB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<Relationship Id="rId11" Type="http://schemas.openxmlformats.org/officeDocument/2006/relationships/comments" Target="../comments/comment8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Deep Sequenc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6364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3640"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Introduction to Bioinformatics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3640"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November 9th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364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3640"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ngela Benton, Samuel Darko, Prakriti Mudvari and Prisca Takund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3640"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3640"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Next Gen vs Sang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et’s think about the domesticated silkworm gen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he reference genome is about 432Mb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It was assembled from approximately 8.5 fold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4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4000"/>
              </a:lnSpc>
              <a:spcAft>
                <a:spcPts val="28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01880" y="4618080"/>
          <a:ext cx="7924320" cy="2590560"/>
        </p:xfrm>
        <a:graphic>
          <a:graphicData uri="http://schemas.openxmlformats.org/drawingml/2006/table">
            <a:tbl>
              <a:tblPr/>
              <a:tblGrid>
                <a:gridCol w="1338480"/>
                <a:gridCol w="1317240"/>
                <a:gridCol w="1316880"/>
                <a:gridCol w="1316880"/>
                <a:gridCol w="1317240"/>
                <a:gridCol w="1317600"/>
              </a:tblGrid>
              <a:tr h="89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tfo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I3730xl Genome Analy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che (454) FL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llumina Genome Analyzer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I SOLiD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licos Heli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quencing Sp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-0.07 Mb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 Mb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 Mb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–28 Mb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 Mb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me to sequence (day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8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Bioinformatic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Because of the massively parallel nature of next gen sequencers, huge amounts of data are produced quickly requiring terabytes of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New bioinformatics tools were developed to utilize the huge number of much shorter reads (~35bp vs ~800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wtie - Ultrafast, memory-efficient short read alig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Pdenovo - Part of the SOAP suite, used to build reference gen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Hat - TopHat is a fast splice junction mapper for RNA-Seq re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Novel whole genome 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he Sorcerer II Global Ocean Sampling Expedition: Northwest Atlantic through Eastern Tropical Pa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Whole genome re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Complete Resequencing of 40 Genomes Reveals Domestication Events and Genes in Silkworm (Bomby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RNA-Seq (transcriptom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4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 Global View of Gene Activity and Alternative Splicing by Deep Sequencing of the Human Transcript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isca Takundw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-GENERATION SEQUENCING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tential applications platform for next-generation sequencing is enorm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 that will be discussed include application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ular Genomes using W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ge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mic Med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ovel ap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llular Genom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dvent of automation in Sequencing initiated by Craig Venter et al gave rise to sequencing beyond viruses and organel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95 Venter’s group at TIGR reported complete sequences of two bacteria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emophilus influenz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ycoplasma genitali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llular Genom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ce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limpse of the complete instruction set for a living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pproximation of the minimal set  of genes required for cellular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ight into the methods used to come up with these cellular gen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llular Genom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ved the way for other cellular genomes such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.coli, Saccharomyces cerevisiae, Caenorhabditis elegans, Drosophila melanog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-generation app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tagenomic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ing rid of cul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s diversity, includes all genes and potentially all members contributing to a given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use 16S rRNA gene to identify different species and str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s the huge gap in sequence data in non-model spe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rokaryotes are human patho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tagenomic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itbart et al showed that 2000 liters of sea water contained &gt;5000 different viruses. &gt;1000 of these were found in human stool and majority of these were new spe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ig Venter’s Global Ocean Voy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History of Sequenc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Sanger Sequencing” developed by Fred Sanger </a:t>
            </a:r>
            <a:r>
              <a:rPr b="0" i="1" lang="fi-FI" sz="2800" spc="-1" strike="noStrike">
                <a:solidFill>
                  <a:srgbClr val="000000"/>
                </a:solidFill>
                <a:latin typeface="Arial"/>
              </a:rPr>
              <a:t>et al 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in the mid 197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Uses dideoxynucleotides for ”chain termination”, generating fragments of different lengths ending in ddATP, ddGTP, ddCTP or dd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459080" y="4389480"/>
            <a:ext cx="6413400" cy="2590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362960" y="7056360"/>
            <a:ext cx="66103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openwetware.org/wiki/BE.109:Bio-material_engineering/Sequence_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nomic Medic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ing and how it lends itself to med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tions in diagnosis, treatment and pre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ized med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00 gen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 include Cancer and HIV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ther Novel Applica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qu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– Sugar beet and Tropical Evergreen Fagace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k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949320" y="3681360"/>
            <a:ext cx="7469280" cy="1744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ela Ben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544320" y="0"/>
            <a:ext cx="9072360" cy="162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ranscriptomic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ackground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08000" y="17632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72880" indent="-2728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criptome – the complete set of coding and non-coding RNA molecules in a cell at a particular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104000"/>
              </a:lnSpc>
              <a:spcAft>
                <a:spcPts val="1137"/>
              </a:spcAft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es between cell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criptomics – the study of the transcripts in a cell, cell type, organism, etc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104000"/>
              </a:lnSpc>
              <a:spcAft>
                <a:spcPts val="1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andidate Gene Analysi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08000" y="17632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6000"/>
          </a:bodyPr>
          <a:p>
            <a:pPr marL="493560" indent="-49356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rthern blot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19240">
              <a:lnSpc>
                <a:spcPct val="104000"/>
              </a:lnSpc>
              <a:spcAft>
                <a:spcPts val="1137"/>
              </a:spcAft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ion of RNA molecules by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19240">
              <a:lnSpc>
                <a:spcPct val="104000"/>
              </a:lnSpc>
              <a:spcAft>
                <a:spcPts val="1137"/>
              </a:spcAft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ization of a complementary radioactively-labeled pr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19240">
              <a:lnSpc>
                <a:spcPct val="104000"/>
              </a:lnSpc>
              <a:spcAft>
                <a:spcPts val="1137"/>
              </a:spcAft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verse transcriptase PCR (RT-PC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19240">
              <a:lnSpc>
                <a:spcPct val="104000"/>
              </a:lnSpc>
              <a:spcAft>
                <a:spcPts val="1137"/>
              </a:spcAft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NA molecules reverse transcribed into cD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19240">
              <a:lnSpc>
                <a:spcPct val="104000"/>
              </a:lnSpc>
              <a:spcAft>
                <a:spcPts val="1137"/>
              </a:spcAft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R amp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19240">
              <a:lnSpc>
                <a:spcPct val="104000"/>
              </a:lnSpc>
              <a:spcAft>
                <a:spcPts val="1137"/>
              </a:spcAft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fica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icroarray Technolog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08000" y="17632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72880" indent="-2728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-throughput gene expression profi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bridization of labeled cDNAs to an array of complementary DNA prob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ment of expression levels based on hybridization intens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quencing-Based Approach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08000" y="17632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514440" indent="-5144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ll-length cDNA (FLcDNA) sequen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04000"/>
              </a:lnSpc>
              <a:spcAft>
                <a:spcPts val="1137"/>
              </a:spcAft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sequencing of cDNA c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ressed sequence tag (EST) sequen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04000"/>
              </a:lnSpc>
              <a:spcAft>
                <a:spcPts val="1137"/>
              </a:spcAft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-pass sequencing of cDNA c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ial Analysis of Gene Expression (SAG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04000"/>
              </a:lnSpc>
              <a:spcAft>
                <a:spcPts val="1137"/>
              </a:spcAft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sequence tags at 3’ end of tran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04000"/>
              </a:lnSpc>
              <a:spcAft>
                <a:spcPts val="1137"/>
              </a:spcAft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s concatenated and seque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0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NA-Seq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08000" y="17632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256320" indent="-2563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ternative to Sanger sequenc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NA molecules converted into library of cDNA frag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14560">
              <a:lnSpc>
                <a:spcPct val="104000"/>
              </a:lnSpc>
              <a:spcAft>
                <a:spcPts val="1137"/>
              </a:spcAft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aptors attached to one/both en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hort sequence reads obtain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igned to reference genome and classified a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14560">
              <a:lnSpc>
                <a:spcPct val="104000"/>
              </a:lnSpc>
              <a:spcAft>
                <a:spcPts val="1137"/>
              </a:spcAft>
              <a:buClr>
                <a:srgbClr val="00cc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14560">
              <a:lnSpc>
                <a:spcPct val="104000"/>
              </a:lnSpc>
              <a:spcAft>
                <a:spcPts val="1137"/>
              </a:spcAft>
              <a:buClr>
                <a:srgbClr val="00cc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unc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14560">
              <a:lnSpc>
                <a:spcPct val="104000"/>
              </a:lnSpc>
              <a:spcAft>
                <a:spcPts val="1137"/>
              </a:spcAft>
              <a:buClr>
                <a:srgbClr val="00cc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ly-A en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be used to assembl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de novo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6320" indent="-2563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800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xt Generation Sequencing Applica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08000" y="19317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514440" indent="-51444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tein-coding gene anno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04000"/>
              </a:lnSpc>
              <a:spcAft>
                <a:spcPts val="1137"/>
              </a:spcAft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riptome sequences can be alig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6680" indent="-514440">
              <a:lnSpc>
                <a:spcPct val="104000"/>
              </a:lnSpc>
              <a:spcAft>
                <a:spcPts val="575"/>
              </a:spcAft>
              <a:buClr>
                <a:srgbClr val="00cc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genome of same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6680" indent="-514440">
              <a:lnSpc>
                <a:spcPct val="104000"/>
              </a:lnSpc>
              <a:spcAft>
                <a:spcPts val="575"/>
              </a:spcAft>
              <a:buClr>
                <a:srgbClr val="00cc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genome of related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04000"/>
              </a:lnSpc>
              <a:spcAft>
                <a:spcPts val="1137"/>
              </a:spcAft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y of novel exons and in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04000"/>
              </a:lnSpc>
              <a:spcAft>
                <a:spcPts val="1137"/>
              </a:spcAft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read lengths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 nov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04000"/>
              </a:lnSpc>
              <a:spcAft>
                <a:spcPts val="1137"/>
              </a:spcAft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read lengths – novel splicing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008000" y="19317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514440" indent="-51444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ene expression profi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04000"/>
              </a:lnSpc>
              <a:spcAft>
                <a:spcPts val="1137"/>
              </a:spcAft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G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04000"/>
              </a:lnSpc>
              <a:spcAft>
                <a:spcPts val="1137"/>
              </a:spcAft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’-RATE method (454 sequenc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04000"/>
              </a:lnSpc>
              <a:spcAft>
                <a:spcPts val="1137"/>
              </a:spcAft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’-UTR method (454 sequenc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800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xt Generation Sequencing Applica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History of Sequencing Cont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50840"/>
            <a:ext cx="4232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hematic of Sanger sequ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sequencing2.gif"/>
          <p:cNvPicPr/>
          <p:nvPr/>
        </p:nvPicPr>
        <p:blipFill>
          <a:blip r:embed="rId2"/>
          <a:stretch/>
        </p:blipFill>
        <p:spPr>
          <a:xfrm>
            <a:off x="5040360" y="1951200"/>
            <a:ext cx="4308480" cy="5181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964040" y="7132680"/>
            <a:ext cx="449064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scq.ubc.ca/genome-projects-uncovering-the-blueprints-of-biolog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008000" y="19317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514440" indent="-51444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ncoding RNA (ncRNA) discove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04000"/>
              </a:lnSpc>
              <a:spcAft>
                <a:spcPts val="1137"/>
              </a:spcAft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RNA not translated into protein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04000"/>
              </a:lnSpc>
              <a:spcAft>
                <a:spcPts val="1137"/>
              </a:spcAft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in regulation of development and cell fate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04000"/>
              </a:lnSpc>
              <a:spcAft>
                <a:spcPts val="1137"/>
              </a:spcAft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ki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6680" indent="-514440">
              <a:lnSpc>
                <a:spcPct val="104000"/>
              </a:lnSpc>
              <a:spcAft>
                <a:spcPts val="575"/>
              </a:spcAft>
              <a:buClr>
                <a:srgbClr val="00cc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 RNAs (miRN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6680" indent="-514440">
              <a:lnSpc>
                <a:spcPct val="104000"/>
              </a:lnSpc>
              <a:spcAft>
                <a:spcPts val="575"/>
              </a:spcAft>
              <a:buClr>
                <a:srgbClr val="00cc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interfering RNAs (siRN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6680" indent="-514440">
              <a:lnSpc>
                <a:spcPct val="104000"/>
              </a:lnSpc>
              <a:spcAft>
                <a:spcPts val="575"/>
              </a:spcAft>
              <a:buClr>
                <a:srgbClr val="00cc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wi-interacting RNAs (piRN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800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xt Generation Sequencing Applica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008000" y="19317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514440" indent="-51444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anscript rearrangement discove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04000"/>
              </a:lnSpc>
              <a:spcAft>
                <a:spcPts val="1137"/>
              </a:spcAft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ome rearrangements common in human can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04000"/>
              </a:lnSpc>
              <a:spcAft>
                <a:spcPts val="1137"/>
              </a:spcAft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6680" indent="-514440">
              <a:lnSpc>
                <a:spcPct val="104000"/>
              </a:lnSpc>
              <a:spcAft>
                <a:spcPts val="575"/>
              </a:spcAft>
              <a:buClr>
                <a:srgbClr val="00cc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6680" indent="-514440">
              <a:lnSpc>
                <a:spcPct val="104000"/>
              </a:lnSpc>
              <a:spcAft>
                <a:spcPts val="575"/>
              </a:spcAft>
              <a:buClr>
                <a:srgbClr val="00cc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6680" indent="-514440">
              <a:lnSpc>
                <a:spcPct val="104000"/>
              </a:lnSpc>
              <a:spcAft>
                <a:spcPts val="575"/>
              </a:spcAft>
              <a:buClr>
                <a:srgbClr val="00cc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6680" indent="-514440">
              <a:lnSpc>
                <a:spcPct val="104000"/>
              </a:lnSpc>
              <a:spcAft>
                <a:spcPts val="575"/>
              </a:spcAft>
              <a:buClr>
                <a:srgbClr val="00cc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number vari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04000"/>
              </a:lnSpc>
              <a:spcAft>
                <a:spcPts val="1137"/>
              </a:spcAft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-end 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6680" indent="-514440">
              <a:lnSpc>
                <a:spcPct val="104000"/>
              </a:lnSpc>
              <a:spcAft>
                <a:spcPts val="575"/>
              </a:spcAft>
              <a:buClr>
                <a:srgbClr val="00cc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s presence of rearran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104000"/>
              </a:lnSpc>
              <a:spcAft>
                <a:spcPts val="1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8000" y="420840"/>
            <a:ext cx="856944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xt Generation Sequencing Applica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10080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ioinformatic Implica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08000" y="17632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72880" indent="-2728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rge amounts of data gener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ols are needed to aid i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4000"/>
              </a:lnSpc>
              <a:spcBef>
                <a:spcPts val="575"/>
              </a:spcBef>
              <a:spcAft>
                <a:spcPts val="1137"/>
              </a:spcAft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4000"/>
              </a:lnSpc>
              <a:spcBef>
                <a:spcPts val="575"/>
              </a:spcBef>
              <a:spcAft>
                <a:spcPts val="1137"/>
              </a:spcAft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i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4000"/>
              </a:lnSpc>
              <a:spcBef>
                <a:spcPts val="575"/>
              </a:spcBef>
              <a:spcAft>
                <a:spcPts val="1137"/>
              </a:spcAft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4000"/>
              </a:lnSpc>
              <a:spcBef>
                <a:spcPts val="575"/>
              </a:spcBef>
              <a:spcAft>
                <a:spcPts val="1137"/>
              </a:spcAft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4000"/>
              </a:lnSpc>
              <a:spcBef>
                <a:spcPts val="575"/>
              </a:spcBef>
              <a:spcAft>
                <a:spcPts val="1137"/>
              </a:spcAft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ioinformatics of Deep Sequenc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akriti Mudv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9240" y="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ioinformatics of Deep Sequencing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992240" y="2027160"/>
            <a:ext cx="6324840" cy="50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835360" y="7182000"/>
            <a:ext cx="47847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bcb.umd.edu/research/viewer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363840" y="2179800"/>
            <a:ext cx="3571920" cy="48290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Basics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97160" y="7056360"/>
            <a:ext cx="640080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k.u-tokyo.ac.jp/pros-e/person/shinichi_morishita/shinichi_morishita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449440" y="1874880"/>
            <a:ext cx="4564080" cy="54687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reating a Paired End Ta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71560" y="7277040"/>
            <a:ext cx="40867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edia.wiley.com/wires/WSBM/WSBM40/nfig00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ired End vs. Unpaired Read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ons of reads are gener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titive regions within the genome cause the reads to be mapped to multiple lo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morphism in a read can cause it to be mapped to a wrong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arding ambiguous reads can reduce co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mparison of Outpu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55640" y="2441520"/>
          <a:ext cx="8648280" cy="3095280"/>
        </p:xfrm>
        <a:graphic>
          <a:graphicData uri="http://schemas.openxmlformats.org/drawingml/2006/table">
            <a:tbl>
              <a:tblPr/>
              <a:tblGrid>
                <a:gridCol w="1679040"/>
                <a:gridCol w="1203480"/>
                <a:gridCol w="1441440"/>
                <a:gridCol w="1441440"/>
                <a:gridCol w="1441440"/>
                <a:gridCol w="1441440"/>
              </a:tblGrid>
              <a:tr h="1094400">
                <a:tc>
                  <a:txBody>
                    <a:bodyPr lIns="100800" rIns="100800" tIns="50400" bIns="504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BI 3730 Genome Analyz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5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llumina Genome Analyz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BI SOL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HeliSc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160">
                <a:tc>
                  <a:txBody>
                    <a:bodyPr lIns="100800" rIns="100800" tIns="50400" bIns="504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ead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-900 b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-300 b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-40 b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b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-35 b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720">
                <a:tc>
                  <a:txBody>
                    <a:bodyPr lIns="100800" rIns="100800" tIns="50400" bIns="504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equencing 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-0.07 Mb/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Mb/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Mb/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-28 Mb/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 Mb/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 Platform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P/Mutation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History of Sequencing Cont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DNA fragments are separated by size by gel electrophor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From the gel, the DNA sequence can be determ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Can produce DNA fragments 700-900bp long (good), but it’s slow (b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ots of other problems including clone library generation and low 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he Human Genome Project used Sanger sequencing, completion took over 10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ioinformatics Tool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gnment of reads to reference gen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mbly of de novo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Control &amp; Base Cal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morphism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me browsing and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lignment of reads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s generated from sequencing is mapped to a reference gen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tional tools like Blast or Blat do not work well with short sequence rea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cation of existing alignment algorithms to handle short rea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lignment Tool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marL="260640" indent="-260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_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n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a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Ri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ort Oligonucleotide Alignment Program (SOAP)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950840"/>
            <a:ext cx="907236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s short oligonucleotides to reference sequence in a gapped or ungapped alig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 for single as well as paired end alig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at most two mismatches per read or one continuous gap of size 1-3bp when aligning. No mismatches allowed in the flanking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hit is the one with least number of mismatches or smallest g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ratively trims the several basepairs at 3’ end, that have highest number of sequencing errors and realig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seed and hash-lookup algorithm to accelerate alig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s reference sequence into memory instead of rea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ten in C++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ssembl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874520"/>
            <a:ext cx="90676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novo sequencing involves assembling overlapping reads to form contiguous sequence of D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in cases where there’s no genomic information availa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ssembly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y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ler-S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C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v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ssembly By Short Sequence (ABySS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ly developed for de novo assembly of large genomes using short re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distributed representation of a de Bruijn graph that allows parallel computation of algorithm across a network of compu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 is done in two ste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ossible substrings of a specific length of sequence reads are first generated. Substring dataset are then processed to remove errors and contiguous sequences are built without using paired end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 pair information is then used to extend the conti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ssembly By Short Sequence (ABySS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of paired end reads reduces the ambiguity of repetitive reg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ten in C++ and uses Message Parsing Interface to communicate between nod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asecall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ation of nucleotide base depending on signal on the trace file produced by a sequenc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220840" y="2712960"/>
            <a:ext cx="5791320" cy="44737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301120" y="7182000"/>
            <a:ext cx="55926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tat.fsu.edu/~lilei/lilei/research/hmm/simulate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asecall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yroBa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a-Cyc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yes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Next Generation Sequencer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Next (or 3</a:t>
            </a:r>
            <a:r>
              <a:rPr b="0" lang="fi-FI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) generation sequencers came onto the scene in the early 200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General characteristic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mplification of genetic material by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gation of amplified material to a solid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equence of the target genetic material is determined using Sequence-by-Synthesis (using labelled nucleotides or pyrosequencing for detection) or Sequence by l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Aft>
                <a:spcPts val="1137"/>
              </a:spcAft>
              <a:buClr>
                <a:srgbClr val="996633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equencing done in a massively parallel fashion and sequence information is captured by a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ngle Nucleotide Polymorphisms (SNP) Detec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202716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 variation caused when a single nucleotide base differs between different members of species or between two chromosomes of an individual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Sh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ahaS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NP Detec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ther Tool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Dust: Program for identifying and eliminating artifacts from next generation sequencing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Read: Package for input, quality assessment and exploration of high-throughput sequence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1680" y="187452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. Morozova, et al. Applications of New Sequencing Technologies for Transcriptome Analysis. Annu. Rev. Genomics Hum. Genet.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C. Vera, et al. 2001. Rapid transcriptome characterization for a nonmodel organism using 454 pyrosequencing. Mol. Ecol. 17:1636-163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Cloonan, et al. 2008. Stem cell transcriptome profiling via massive-scale mRNA sequencing. Nat. Methods. 5:613-61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.D. Morin, et al. 2008. Application massively parallel sequencing to microRNA profiling and discovery in human embryonic stem cells. Genome Res. 18(4):610-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.K. Thomas, et al. 2007. High-throughput oncogene mutation profiling in human cancer. Nat. Genet. 39:347-5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. Wang, et al. 2009. RNA-Seq: a revolutionary tool for transcriptomics. Nature Review Genetics. 10(1):57-6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.A. Brown. 2007. Genomics. Garland Science Publishing. Chapter 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ferences cont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000" y="202716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ter, C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he Sorcerer II Global Ocean Sampling Expedition: Northwest Atlantic through Eastern Tropical Pacific.  PLoS Biology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ultan, M </a:t>
            </a:r>
            <a:r>
              <a:rPr b="0" i="1" lang="fi-FI" sz="1800" spc="-1" strike="noStrike">
                <a:solidFill>
                  <a:srgbClr val="000000"/>
                </a:solidFill>
                <a:latin typeface="Arial"/>
              </a:rPr>
              <a:t>et al: 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 Global View of Gene Activity and Alternative Splicing by Deep Sequencing of the Human Transcriptome.  Science,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Xia, Q </a:t>
            </a:r>
            <a:r>
              <a:rPr b="0" i="1" lang="fi-FI" sz="1800" spc="-1" strike="noStrike">
                <a:solidFill>
                  <a:srgbClr val="000000"/>
                </a:solidFill>
                <a:latin typeface="Arial"/>
              </a:rPr>
              <a:t>et al: 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mplete Resequencing of 40 Genomes Reveals Domestication Events and Genes in Silkworm (Bombyx).  Science,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nome Res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 November; 18(11): 1851–1858. 2008, Cold Spring Harbor Laboratory PressMapping short DNA sequencing reads and calling variants using mapping quality scoresHeng Li,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ue Ruan,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Richard Durbi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ex parallel pair-end-ditag sequencing approaches in system biology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Arial"/>
              </a:rPr>
              <a:t>Yijun Ruan, Chia-Lin Wei</a:t>
            </a:r>
            <a:r>
              <a:rPr b="0" lang="en-US" sz="1800" spc="-1" strike="noStrike" baseline="30000">
                <a:solidFill>
                  <a:srgbClr val="333333"/>
                </a:solidFill>
                <a:latin typeface="Arial"/>
                <a:ea typeface="Arial"/>
              </a:rPr>
              <a:t> *</a:t>
            </a:r>
            <a:br>
              <a:rPr sz="1800"/>
            </a:b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Arial"/>
              </a:rPr>
              <a:t>Genome Technology &amp; Biology Group, Genome Institute of Singapore, 60 Biopolis Street, Singapore 1386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SOAP: short oligonucleotide alignment program" (2008) BIOINFORMATICS,Vol. 24 no.5 2008, pages 713–714 doi:10.1093/bioinformatics/btn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ferences cont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000" y="195084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tchinson, Clyde A. DNA Sequencing : bench to bedside and beyond. Nucleid Acids Research,2007 Vol 35, No.18 6227-6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itbart, M; Salamon P, Andresen B, Mahaffy JM, Segall AM, Mead D, Azam F, Rohwer F (2002). "Genomic analysis of uncultured marine viral communities". Proceedings of the National Academy USA 99: 14250–1425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mmelbauer et al, Plant Genomics in the era of high throughput sequencing: The case of the sugar beet, Next Generation Sequencing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a, CS and Cannon, CH, Comparative genomics of Tropical Evergreen Fagaceae, Next Generation Sequencing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u George, Applications and Case Studies of the Next-Generation Sequencing Technologies in Food, Nutrition and Agriculture, Recent Patents on Food, Nutrition &amp; Agriculture, 2009,1,75-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Next Gen. Sequencers Cont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92040" y="2255760"/>
          <a:ext cx="9448560" cy="4647960"/>
        </p:xfrm>
        <a:graphic>
          <a:graphicData uri="http://schemas.openxmlformats.org/drawingml/2006/table">
            <a:tbl>
              <a:tblPr/>
              <a:tblGrid>
                <a:gridCol w="1801440"/>
                <a:gridCol w="1621080"/>
                <a:gridCol w="1441080"/>
                <a:gridCol w="1522800"/>
                <a:gridCol w="1473840"/>
                <a:gridCol w="1588320"/>
              </a:tblGrid>
              <a:tr h="101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quencing platfo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I3730xl Genome Analy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che (454) FL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llumina Genome Analy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I SOL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li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quencing chemis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mated Sanger seque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yrosequencing on solid sup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quencing-by-synthesis with reversible termina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quencing by lig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quencing-by-synthesis with virtual termina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mplate amplification 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vivo amplification via clo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ulsion P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idge P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ulsion P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 (single molecu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d leng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0–900 b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–300 b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–40 b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 b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–35 b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quencing throughp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–0.07 Mb/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 Mb/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 Mb/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–28 Mb/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 Mb/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Next Gen. Sequencers Cont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35040" y="1789200"/>
            <a:ext cx="670572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2"/>
          <p:cNvSpPr/>
          <p:nvPr/>
        </p:nvSpPr>
        <p:spPr>
          <a:xfrm>
            <a:off x="7812000" y="7223040"/>
            <a:ext cx="2100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85EDDF-26F5-46A6-9B15-6182BDD82D04}" type="slidenum"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6835320" y="1898640"/>
            <a:ext cx="1380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Template_big_A"/>
          <p:cNvPicPr/>
          <p:nvPr/>
        </p:nvPicPr>
        <p:blipFill>
          <a:blip r:embed="rId2"/>
          <a:stretch/>
        </p:blipFill>
        <p:spPr>
          <a:xfrm>
            <a:off x="1459080" y="3017880"/>
            <a:ext cx="4060800" cy="4067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Frame1_big_A"/>
          <p:cNvPicPr/>
          <p:nvPr/>
        </p:nvPicPr>
        <p:blipFill>
          <a:blip r:embed="rId3"/>
          <a:stretch/>
        </p:blipFill>
        <p:spPr>
          <a:xfrm>
            <a:off x="1459080" y="3017880"/>
            <a:ext cx="4060800" cy="4067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Frame2_big_A"/>
          <p:cNvPicPr/>
          <p:nvPr/>
        </p:nvPicPr>
        <p:blipFill>
          <a:blip r:embed="rId4"/>
          <a:stretch/>
        </p:blipFill>
        <p:spPr>
          <a:xfrm>
            <a:off x="1459080" y="3017880"/>
            <a:ext cx="4060800" cy="4067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Frame3_big_A"/>
          <p:cNvPicPr/>
          <p:nvPr/>
        </p:nvPicPr>
        <p:blipFill>
          <a:blip r:embed="rId5"/>
          <a:stretch/>
        </p:blipFill>
        <p:spPr>
          <a:xfrm>
            <a:off x="1459080" y="3017880"/>
            <a:ext cx="4060800" cy="406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Frame4_big_A"/>
          <p:cNvPicPr/>
          <p:nvPr/>
        </p:nvPicPr>
        <p:blipFill>
          <a:blip r:embed="rId6"/>
          <a:stretch/>
        </p:blipFill>
        <p:spPr>
          <a:xfrm>
            <a:off x="1459080" y="3017880"/>
            <a:ext cx="4060800" cy="4067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Frame5_big_A"/>
          <p:cNvPicPr/>
          <p:nvPr/>
        </p:nvPicPr>
        <p:blipFill>
          <a:blip r:embed="rId7"/>
          <a:stretch/>
        </p:blipFill>
        <p:spPr>
          <a:xfrm>
            <a:off x="1459080" y="3017880"/>
            <a:ext cx="4060800" cy="4067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Frame6_big_A"/>
          <p:cNvPicPr/>
          <p:nvPr/>
        </p:nvPicPr>
        <p:blipFill>
          <a:blip r:embed="rId8"/>
          <a:stretch/>
        </p:blipFill>
        <p:spPr>
          <a:xfrm>
            <a:off x="1459080" y="3017880"/>
            <a:ext cx="4060800" cy="4067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Frame7_big_A"/>
          <p:cNvPicPr/>
          <p:nvPr/>
        </p:nvPicPr>
        <p:blipFill>
          <a:blip r:embed="rId9"/>
          <a:stretch/>
        </p:blipFill>
        <p:spPr>
          <a:xfrm>
            <a:off x="1459080" y="2941560"/>
            <a:ext cx="4060800" cy="40672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1"/>
          <p:cNvSpPr/>
          <p:nvPr/>
        </p:nvSpPr>
        <p:spPr>
          <a:xfrm>
            <a:off x="2089800" y="2382840"/>
            <a:ext cx="25844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TEMPL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1538640" y="2424240"/>
            <a:ext cx="5086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2113920" y="2424240"/>
            <a:ext cx="4856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2661480" y="2424240"/>
            <a:ext cx="4856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3237120" y="2424240"/>
            <a:ext cx="5086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3810600" y="2424240"/>
            <a:ext cx="4431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4344120" y="2424240"/>
            <a:ext cx="4856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4892040" y="2424240"/>
            <a:ext cx="4856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6413400" y="2575080"/>
            <a:ext cx="441360" cy="41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7373880" y="2575080"/>
            <a:ext cx="441360" cy="41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8337600" y="2575080"/>
            <a:ext cx="439560" cy="41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2"/>
          <p:cNvGrpSpPr/>
          <p:nvPr/>
        </p:nvGrpSpPr>
        <p:grpSpPr>
          <a:xfrm>
            <a:off x="6469920" y="3057480"/>
            <a:ext cx="2293560" cy="505800"/>
            <a:chOff x="6469920" y="3057480"/>
            <a:chExt cx="2293560" cy="505800"/>
          </a:xfrm>
        </p:grpSpPr>
        <p:sp>
          <p:nvSpPr>
            <p:cNvPr id="88" name="Text Box 23"/>
            <p:cNvSpPr/>
            <p:nvPr/>
          </p:nvSpPr>
          <p:spPr>
            <a:xfrm>
              <a:off x="8325360" y="3057480"/>
              <a:ext cx="43812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4"/>
            <p:cNvSpPr/>
            <p:nvPr/>
          </p:nvSpPr>
          <p:spPr>
            <a:xfrm>
              <a:off x="7423920" y="3057480"/>
              <a:ext cx="29052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5"/>
            <p:cNvSpPr/>
            <p:nvPr/>
          </p:nvSpPr>
          <p:spPr>
            <a:xfrm>
              <a:off x="6469920" y="3057480"/>
              <a:ext cx="29052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6"/>
          <p:cNvGrpSpPr/>
          <p:nvPr/>
        </p:nvGrpSpPr>
        <p:grpSpPr>
          <a:xfrm>
            <a:off x="6431040" y="3651120"/>
            <a:ext cx="2235240" cy="505800"/>
            <a:chOff x="6431040" y="3651120"/>
            <a:chExt cx="2235240" cy="505800"/>
          </a:xfrm>
        </p:grpSpPr>
        <p:sp>
          <p:nvSpPr>
            <p:cNvPr id="92" name="Text Box 27"/>
            <p:cNvSpPr/>
            <p:nvPr/>
          </p:nvSpPr>
          <p:spPr>
            <a:xfrm>
              <a:off x="8375760" y="3651120"/>
              <a:ext cx="29052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8"/>
            <p:cNvSpPr/>
            <p:nvPr/>
          </p:nvSpPr>
          <p:spPr>
            <a:xfrm>
              <a:off x="7382520" y="3651120"/>
              <a:ext cx="42012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9"/>
            <p:cNvSpPr/>
            <p:nvPr/>
          </p:nvSpPr>
          <p:spPr>
            <a:xfrm>
              <a:off x="6431040" y="3651120"/>
              <a:ext cx="42012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0"/>
          <p:cNvGrpSpPr/>
          <p:nvPr/>
        </p:nvGrpSpPr>
        <p:grpSpPr>
          <a:xfrm>
            <a:off x="6471720" y="4245120"/>
            <a:ext cx="2274120" cy="505800"/>
            <a:chOff x="6471720" y="4245120"/>
            <a:chExt cx="2274120" cy="505800"/>
          </a:xfrm>
        </p:grpSpPr>
        <p:sp>
          <p:nvSpPr>
            <p:cNvPr id="96" name="Text Box 31"/>
            <p:cNvSpPr/>
            <p:nvPr/>
          </p:nvSpPr>
          <p:spPr>
            <a:xfrm>
              <a:off x="8325720" y="4245120"/>
              <a:ext cx="42012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32"/>
            <p:cNvSpPr/>
            <p:nvPr/>
          </p:nvSpPr>
          <p:spPr>
            <a:xfrm>
              <a:off x="7373160" y="4245120"/>
              <a:ext cx="42012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33"/>
            <p:cNvSpPr/>
            <p:nvPr/>
          </p:nvSpPr>
          <p:spPr>
            <a:xfrm>
              <a:off x="6471720" y="4245120"/>
              <a:ext cx="29052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34"/>
          <p:cNvGrpSpPr/>
          <p:nvPr/>
        </p:nvGrpSpPr>
        <p:grpSpPr>
          <a:xfrm>
            <a:off x="6421680" y="4836960"/>
            <a:ext cx="2244600" cy="505800"/>
            <a:chOff x="6421680" y="4836960"/>
            <a:chExt cx="2244600" cy="505800"/>
          </a:xfrm>
        </p:grpSpPr>
        <p:sp>
          <p:nvSpPr>
            <p:cNvPr id="100" name="Text Box 35"/>
            <p:cNvSpPr/>
            <p:nvPr/>
          </p:nvSpPr>
          <p:spPr>
            <a:xfrm>
              <a:off x="8375760" y="4836960"/>
              <a:ext cx="29052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36"/>
            <p:cNvSpPr/>
            <p:nvPr/>
          </p:nvSpPr>
          <p:spPr>
            <a:xfrm>
              <a:off x="7373520" y="4836960"/>
              <a:ext cx="43812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37"/>
            <p:cNvSpPr/>
            <p:nvPr/>
          </p:nvSpPr>
          <p:spPr>
            <a:xfrm>
              <a:off x="6421680" y="4836960"/>
              <a:ext cx="43812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38"/>
          <p:cNvGrpSpPr/>
          <p:nvPr/>
        </p:nvGrpSpPr>
        <p:grpSpPr>
          <a:xfrm>
            <a:off x="6469920" y="5430960"/>
            <a:ext cx="2253600" cy="505800"/>
            <a:chOff x="6469920" y="5430960"/>
            <a:chExt cx="2253600" cy="505800"/>
          </a:xfrm>
        </p:grpSpPr>
        <p:sp>
          <p:nvSpPr>
            <p:cNvPr id="104" name="Text Box 39"/>
            <p:cNvSpPr/>
            <p:nvPr/>
          </p:nvSpPr>
          <p:spPr>
            <a:xfrm>
              <a:off x="8340120" y="5430960"/>
              <a:ext cx="38340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40"/>
            <p:cNvSpPr/>
            <p:nvPr/>
          </p:nvSpPr>
          <p:spPr>
            <a:xfrm>
              <a:off x="7423560" y="5430960"/>
              <a:ext cx="29052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41"/>
            <p:cNvSpPr/>
            <p:nvPr/>
          </p:nvSpPr>
          <p:spPr>
            <a:xfrm>
              <a:off x="6469920" y="5430960"/>
              <a:ext cx="29052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42"/>
          <p:cNvGrpSpPr/>
          <p:nvPr/>
        </p:nvGrpSpPr>
        <p:grpSpPr>
          <a:xfrm>
            <a:off x="6431040" y="6024600"/>
            <a:ext cx="2235240" cy="505800"/>
            <a:chOff x="6431040" y="6024600"/>
            <a:chExt cx="2235240" cy="505800"/>
          </a:xfrm>
        </p:grpSpPr>
        <p:sp>
          <p:nvSpPr>
            <p:cNvPr id="108" name="Text Box 43"/>
            <p:cNvSpPr/>
            <p:nvPr/>
          </p:nvSpPr>
          <p:spPr>
            <a:xfrm>
              <a:off x="8375760" y="6024600"/>
              <a:ext cx="29052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44"/>
            <p:cNvSpPr/>
            <p:nvPr/>
          </p:nvSpPr>
          <p:spPr>
            <a:xfrm>
              <a:off x="7423920" y="6024600"/>
              <a:ext cx="29052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45"/>
            <p:cNvSpPr/>
            <p:nvPr/>
          </p:nvSpPr>
          <p:spPr>
            <a:xfrm>
              <a:off x="6431040" y="6024600"/>
              <a:ext cx="42012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6"/>
          <p:cNvGrpSpPr/>
          <p:nvPr/>
        </p:nvGrpSpPr>
        <p:grpSpPr>
          <a:xfrm>
            <a:off x="6420960" y="6616800"/>
            <a:ext cx="2324880" cy="505800"/>
            <a:chOff x="6420960" y="6616800"/>
            <a:chExt cx="2324880" cy="505800"/>
          </a:xfrm>
        </p:grpSpPr>
        <p:sp>
          <p:nvSpPr>
            <p:cNvPr id="112" name="Text Box 47"/>
            <p:cNvSpPr/>
            <p:nvPr/>
          </p:nvSpPr>
          <p:spPr>
            <a:xfrm>
              <a:off x="8325720" y="6616800"/>
              <a:ext cx="42012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48"/>
            <p:cNvSpPr/>
            <p:nvPr/>
          </p:nvSpPr>
          <p:spPr>
            <a:xfrm>
              <a:off x="7373160" y="6616800"/>
              <a:ext cx="42012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49"/>
            <p:cNvSpPr/>
            <p:nvPr/>
          </p:nvSpPr>
          <p:spPr>
            <a:xfrm>
              <a:off x="6420960" y="6616800"/>
              <a:ext cx="42012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50"/>
          <p:cNvSpPr/>
          <p:nvPr/>
        </p:nvSpPr>
        <p:spPr>
          <a:xfrm>
            <a:off x="234360" y="2457360"/>
            <a:ext cx="119592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ycl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96600" y="274320"/>
            <a:ext cx="86612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Next Gen. Sequencers Cont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59080" y="7132680"/>
            <a:ext cx="41907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d to author courtesy of Helicos represent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2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"/>
                            </p:stCondLst>
                            <p:childTnLst>
                              <p:par>
                                <p:cTn id="8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Next Gen. Sequencers Cont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ing-by-ligation on 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2040" y="2332080"/>
            <a:ext cx="9239400" cy="4829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8160" y="7182000"/>
            <a:ext cx="78555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umcutrecht.nl/subsite/genetics/Research/PersonalGenomic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9:04:36Z</dcterms:created>
  <dc:creator/>
  <dc:description/>
  <dc:language>en-US</dc:language>
  <cp:lastModifiedBy>Himbac</cp:lastModifiedBy>
  <cp:lastPrinted>2009-11-05T20:56:47Z</cp:lastPrinted>
  <dcterms:modified xsi:type="dcterms:W3CDTF">2009-12-08T16:06:04Z</dcterms:modified>
  <cp:revision>446</cp:revision>
  <dc:subject/>
  <dc:title>Deep Sequencing</dc:title>
</cp:coreProperties>
</file>